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33E-2578-4555-ADB5-6E83355C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792-A9F5-480E-BB72-5293DE94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28C-0B5D-4B63-9032-644F9E01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9A7-32A7-4A20-B888-EBC8140E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F927-83F1-4888-8A39-8A85D327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FF21-67C6-4BAA-8FD5-D65779A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1C6F-6395-4EA9-AE35-36E31B20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BDBF-C296-436A-B76E-AFC8A1CB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6C24-B171-4C93-B8C7-4A5645AF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29F7-7816-4E1D-B28A-9733720F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BCE-C510-4B66-8B4E-973B12B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7114-B048-4E89-8233-03C9A09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D758-E075-4D7A-88DE-AB45C48C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5DD1-28CC-4EF8-8EEE-B6A53BA5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83DF-4020-4B42-835F-26CDBCE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4CC-84E6-432A-8CAD-2955FE49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155-0DA8-4B5D-B9F7-FD6052A0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163145-9B98-4C07-B9CB-51D5C1B9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A58D7-9451-4B99-8BB3-76CD1262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70365-684A-441F-A650-E7011301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CBD1D-2032-4F7C-98F4-6FEB03E5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0D37A-5C01-4CFB-9DCA-44D37A23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9E1-3E68-440E-A4F4-2BCCE997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EBBD4-2E2C-4F78-B927-E6400658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E24F9-1A79-4D09-8754-49C8B45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6EC93-1F91-451E-8934-E946B467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4C958-8D79-4847-B381-CA3A9E7F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5883D-9397-418E-8E74-10828A34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557B0-3DB1-43F9-8219-7EFF7E8B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D1D56-15C1-4431-8D7C-01C78997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3CE42-B988-45F2-88A5-BF3144BB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7182E9-6E3B-4B1E-A8D8-529C93B3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2B6B2-A8A0-4879-858E-541EB21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438-8B02-457D-93BE-01A4D141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4DEE60-764B-4931-AA86-E3A1DE3D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F6591-229C-4514-B5AC-93F45BD5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C95E6-9785-4317-B24F-9ACB8C3F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A8724E-D36A-4B90-9986-9A3BAE7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67921-DE58-42F0-B71F-A5C2F372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8646C-19E4-4533-81F5-5983CF61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EEBFA-624E-45D8-9F7C-489878D2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D7DBA-723A-4DFB-9F3B-BD7A6CBA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778CE-9375-4F75-B538-2FD95A58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63765-54CF-4514-961D-AA036A16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1D7-3067-4D12-BBB0-96EE1461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E35C6-AF5D-426D-B99C-8E7CE79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E2E18-BF5B-4682-B989-FBCE3BE9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C59D9-7FA1-4461-A138-438E89E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59BD8-D10B-411E-8F7A-3410FA6B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1551A-2567-4F90-96D0-4926BA51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375C8-7451-4927-8E0D-3ACE97A8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3AFBF-6C77-4804-BC29-6617972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BDFBA-7941-4E80-A02C-469C01CD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D5ADB-6BBD-441F-89E9-BF7A949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F6BF7-4B5B-4B0C-9808-90B5038E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A97-7642-47D3-89CD-5863A1A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08A2D-2D2A-4899-B463-A57E04A5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57E3A-2115-480E-92AE-9ACB9D16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3338-0604-420A-95F1-841FE10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A91B1-5F7D-4320-AEB3-2A870170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B1ABF-2FCE-46F4-8B78-FC36F24C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E59C3-272A-41E1-B811-3D7CDD77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BC226-68A8-4996-8399-A019E35C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10A7-722F-41E6-B847-1D8ABBD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2176-E122-404E-83F1-AB117300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6BF6E-E559-4EE2-AE8A-E8E6D88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2B71-3FF1-4252-9E86-055320E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EA71-364A-4F8C-A801-44DD9CA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AE901-8D94-45FE-81BA-4D0DE286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2C259-7D0D-400B-8EE0-B7EDE89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14618-022B-468B-8868-0EFD2DB6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D58C2-8906-4117-9F4B-1A11C06A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12BAB-D8E4-49D2-96F6-A473E5FC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71DA1-94A6-49D0-8684-98608FE1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A0BEA-36BD-4654-B211-C5200F0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7AE7E-DEDD-475F-9FCC-C88354C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38121-439C-41D9-9583-C0AF3EA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A6F-71C1-40D4-84D7-B3DE832D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FA639-EDEC-411D-9743-C2F86CA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60A63-8F64-4DEC-8E06-5608927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A159AE-530A-40F2-B006-CC81A80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182BE9-64C8-423B-8461-AE3FCF8B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5FBFF-FA2B-494C-B55C-F24CB984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74A6E-229A-4435-AB0F-31CAF618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1032B-AF17-482D-9680-F2EEE88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6C041-A5B5-42CB-A4ED-34587FCD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63634-EA1B-42D4-9552-15A48397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7955C-1002-4648-9496-25E56BBC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9FC-8CF1-414B-B630-A3CF42AE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1E70B-9D33-4402-8222-EDFF16D7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E2F8-D4AB-4BD0-BB32-78C5630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43DD-9C2F-4552-8879-0A79049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6C2BB-2B0B-4E35-A97E-0F47F5C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4AED-4750-43CC-9FC2-1A4DBBCC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6B100-B95C-4E0F-8CC3-DB2BDF0E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CF695-A7D9-4C4C-9145-17F8FE8E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D4F-42C2-425F-9822-F3B8F0F0B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BA1-5884-4A29-9640-256DBB876A27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54FE-72FD-4B56-9E69-40A52E3433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5F7A-3264-400C-AA69-8638FE8A6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DBD5-014A-442A-9BFD-2D919905D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242E-14FA-443B-86A6-12CB82067E3F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0852-5977-462A-B350-CF47FD116D75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5615-B58B-477A-B00D-20AF7D786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571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ddc3"/>
                </a:solidFill>
                <a:latin typeface="Tw Cen MT"/>
              </a:rPr>
              <a:t>GUEST SERVICE</a:t>
            </a:r>
            <a:br>
              <a:rPr sz="3600"/>
            </a:b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32857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14" descr="j0197795[1]"/>
          <p:cNvPicPr/>
          <p:nvPr/>
        </p:nvPicPr>
        <p:blipFill>
          <a:blip r:embed="rId1"/>
          <a:stretch/>
        </p:blipFill>
        <p:spPr>
          <a:xfrm>
            <a:off x="2857680" y="1928880"/>
            <a:ext cx="3330360" cy="367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Melior_Business_School.PNG"/>
          <p:cNvPicPr/>
          <p:nvPr/>
        </p:nvPicPr>
        <p:blipFill>
          <a:blip r:embed="rId2"/>
          <a:stretch/>
        </p:blipFill>
        <p:spPr>
          <a:xfrm>
            <a:off x="0" y="5910120"/>
            <a:ext cx="267012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Listening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s the only way a receiver can hear the message that the transmitter is sending, so employees can listen for subtle hints and signals a guest gives out during commun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mployee creates a comfort level when they listen, and letting the guest initiate the tone of the conversation also puts him/her at e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ilure to listen properly can cause probl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seven common listening errors ar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ilure to concentra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istening too har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mping the gun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gging behind the convers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cusing too much on delivery or appear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mitt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ommunicating visually is as important as communicating verbally, as visual communication can reinforce what is being said verbal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e complete delivery of guest service can be accomplished by incorporating both mea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rules for effective visual communication are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Communicate with a smil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e aware of body languag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Observe the grooming standard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Communicate with a smile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 genuine smile that accompanies a greeting or thank you reinforces the messa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miling at guests helps create a comfortable atmosphe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Be aware of body language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bserving guest body language is like listening with eyes, it can give the employee clues on how to communicate with the gues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on body language signals include the following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ossed arms may indicate a defensive postur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guest who leans across the front desk during conversation may be aggressiv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ong and consistent eye contact may indicate confid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trong firm handshakes may also indicate confide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d eyes may indicate fatigu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su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Observe appropriate grooming standards: 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tel employees are viewed as an extension of the hotel so a guest’s perception of an employee can contribute to the guest’s overall perception of the hot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first and often most long lasting perception a guest makes on an employee is the employee’s appearance, so most hotels have instituted grooming standa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uest Service Manage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e guest service philosophy of a hotel should be communicated consistentl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his communication should begin with the first day of employee orientation where all new employees should be given the hotel’s service philosoph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75f55"/>
                </a:solidFill>
                <a:latin typeface="Tw Cen MT"/>
              </a:rPr>
              <a:t>Guest Service Management (Cont...)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Guest service training continues beyond orientation and introduction of the service mission statement, and should be constan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Larger hotel chains have complete divisions at a corporate level dedicated to creating and implementing guest service progra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tivating for Guest Serv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otivating employees to embody the service mission statement in their day-to-day duties helps ensure guest satisfa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good way to motivate is through guest feedback, and most hotels have some version of a comment card in the guest ro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se cards encourage guests to rate and/or rank the services received during his/her st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y also solicit the names of employees that have impacted the guest’s st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ents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66280" y="2041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rvice Standar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Guest Conflict Resolu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Diversity Awarenes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ternational Gues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Management’s Role in Guest Servic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75f55"/>
                </a:solidFill>
                <a:latin typeface="Tw Cen MT"/>
              </a:rPr>
              <a:t>Motivating for Guest Service (Cont..)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ployees or departments that are mentioned should be rewarded or recognized in some wa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mployees can be proud of these rewards and a healthy competition can ensue to see which employees can get the most rewa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Guest satisfaction is crucial in maintaining loyalty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Guest loyalty ensures repeat business.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rvic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w Cen MT"/>
              </a:rPr>
              <a:t>Guest service is paramount to hotel succes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w Cen MT"/>
              </a:rPr>
              <a:t>Guest interaction defines guest servic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Verbal communication allows for gaining insight into a gues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The most important verbal tools in ensuring guest satisfaction are perhaps the simples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basic rules for verbal communication are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Use an appropriate greeting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Personalize the conversation (use the guest’s name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Thank the gues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Liste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Use an appropriate greeting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ployees should greet every guest appropriately whether in person or over the phon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y should identify the time of day: “Good morning/afternoon/evening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greeting a guest over the phone, an employee should also include their name and department: “Good morning, front desk, this is John, how may I help you?” This reassures the guest that they have reached the appropriate depart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Personalize the conversation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helps to set a relaxed tone in the conversation, however using an appropriate title (i.e., Mr. or Ms.) is importa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ring check-in or checkout, the guest account will let the employee know the guest’s n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y phone systems will identify the guest’s name and room number, as will many PMS sys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uests greeted by name are subtly reminded that the hotel values their business 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erbal Means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8047"/>
                </a:solidFill>
                <a:uFillTx/>
                <a:latin typeface="Tw Cen MT"/>
              </a:rPr>
              <a:t>Thank the guest:</a:t>
            </a:r>
            <a:r>
              <a:rPr b="0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anking the guest in a sincere manner is also very importa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mployees may conduct a variety of guest services in a day, and each of these transaction should be completed with a “thank you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anking a guest for staying at a hotel also implies that the hotel appreciates their busin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03:03:47Z</dcterms:modified>
  <cp:revision>139</cp:revision>
  <dc:subject/>
  <dc:title>FRONT OFFICE OPERATIONS MANAGEMENT</dc:title>
</cp:coreProperties>
</file>